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411280" y="6251400"/>
            <a:ext cx="6732720" cy="3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30c3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Aft>
                <a:spcPts val="2100"/>
              </a:spcAft>
              <a:buClr>
                <a:srgbClr val="c30c3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Aft>
                <a:spcPts val="21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Aft>
                <a:spcPts val="21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2line_big"/>
          <p:cNvPicPr/>
          <p:nvPr/>
        </p:nvPicPr>
        <p:blipFill>
          <a:blip r:embed="rId2"/>
          <a:stretch/>
        </p:blipFill>
        <p:spPr>
          <a:xfrm>
            <a:off x="77760" y="6073920"/>
            <a:ext cx="3240000" cy="6364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468360" y="1339920"/>
            <a:ext cx="8207280" cy="71280"/>
          </a:xfrm>
          <a:prstGeom prst="rect">
            <a:avLst/>
          </a:prstGeom>
          <a:gradFill rotWithShape="0">
            <a:gsLst>
              <a:gs pos="0">
                <a:srgbClr val="e45c5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line_big"/>
          <p:cNvPicPr/>
          <p:nvPr/>
        </p:nvPicPr>
        <p:blipFill>
          <a:blip r:embed="rId2"/>
          <a:stretch/>
        </p:blipFill>
        <p:spPr>
          <a:xfrm>
            <a:off x="1763640" y="5197320"/>
            <a:ext cx="5545080" cy="1089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468360" y="3500280"/>
            <a:ext cx="820728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30c3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Aft>
                <a:spcPts val="2100"/>
              </a:spcAft>
              <a:buClr>
                <a:srgbClr val="c30c3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Aft>
                <a:spcPts val="21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Aft>
                <a:spcPts val="21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776160"/>
            <a:ext cx="83818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0a1"/>
                </a:solidFill>
                <a:latin typeface="Arial"/>
              </a:rPr>
              <a:t>Auslan Immersion Project</a:t>
            </a:r>
            <a:endParaRPr b="1" lang="en-US" sz="48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160" y="3645000"/>
            <a:ext cx="519084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steene Clifford                    RIDBC Alice Betteridge School            15 Augus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steene.clifford@ridbc.org.a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Methodology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41264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eeks 3, 5,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interactions are in Aus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ake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gmatic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C:\Users\Shawn Kelley\AppData\Local\Microsoft\Windows\Temporary Internet Files\Content.IE5\DAAZ5ZTY\MC900431586[1].png"/>
          <p:cNvPicPr/>
          <p:nvPr/>
        </p:nvPicPr>
        <p:blipFill>
          <a:blip r:embed="rId1"/>
          <a:stretch/>
        </p:blipFill>
        <p:spPr>
          <a:xfrm>
            <a:off x="4392720" y="1557360"/>
            <a:ext cx="13665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Outcomes - Hypothosized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ragmatic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interactions in Aus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length of uttera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Up Arrow 5"/>
          <p:cNvGrpSpPr/>
          <p:nvPr/>
        </p:nvGrpSpPr>
        <p:grpSpPr>
          <a:xfrm>
            <a:off x="6729480" y="1962000"/>
            <a:ext cx="976320" cy="3932280"/>
            <a:chOff x="6729480" y="1962000"/>
            <a:chExt cx="976320" cy="3932280"/>
          </a:xfrm>
        </p:grpSpPr>
        <p:pic>
          <p:nvPicPr>
            <p:cNvPr id="106" name="Up Arrow 5" descr=""/>
            <p:cNvPicPr/>
            <p:nvPr/>
          </p:nvPicPr>
          <p:blipFill>
            <a:blip r:embed="rId1"/>
            <a:stretch/>
          </p:blipFill>
          <p:spPr>
            <a:xfrm>
              <a:off x="6729480" y="1962000"/>
              <a:ext cx="97632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993000" y="2212920"/>
              <a:ext cx="450720" cy="366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A little bit of Auslan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1264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 highlight of Auslan lingu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reque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31147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620120" cy="13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A bit of linguistics 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097600" y="2000160"/>
            <a:ext cx="358920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A bit more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Aft>
                <a:spcPts val="18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Aft>
                <a:spcPts val="18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shi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Aft>
                <a:spcPts val="18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773000"/>
            <a:ext cx="43164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(into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Aft>
                <a:spcPts val="18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Aft>
                <a:spcPts val="18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2209680" y="136440"/>
            <a:ext cx="464832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Key phrases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484280"/>
            <a:ext cx="82407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o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your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name 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help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learning Auslan – please sign slow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60057" t="47973" r="11452" b="17262"/>
          <a:stretch/>
        </p:blipFill>
        <p:spPr>
          <a:xfrm>
            <a:off x="5292720" y="2060640"/>
            <a:ext cx="25923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Important words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83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i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Resources for Auslan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bank  www.auslan.org.au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BC Auslan Tutor www.ridbc.org.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by Publishing www.bilby.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Planet www.signplanet.ne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f Education Network www.deaf.nsw.edu.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696080" cy="13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Project Overview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1264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BC Alice Betteridg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th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ttle bit of Aus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153280" cy="13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0a1"/>
                </a:solidFill>
                <a:latin typeface="Arial"/>
              </a:rPr>
              <a:t>RIDBC Alice Betteridge School</a:t>
            </a:r>
            <a:endParaRPr b="1" lang="en-US" sz="40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sensory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d to moderate intellectual impai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taff to student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apy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BOS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3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Participants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s 4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ound hearing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use of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hlear Im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literac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8400"/>
            <a:ext cx="7620120" cy="13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Action Research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activity among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for ways to improve instruction and increase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aling with theore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ractitioners to address concerns closest to them, which they can exhibit some influence and mak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Problem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stilt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or 2 sign utter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is often key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unfamiliar with proper pragmatic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focus on student without additional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Purpose of the study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57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 environment of total immersion in Auslan for students have an intellectual impairment as well as a hearing impair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udent’s understanding of how languag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ain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able communicative behavio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Purpose of the study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se awareness the necessity of using a complete language when communicating and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instruction for students for the remainder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on current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tudent and staff skill in Aus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y to track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0a1"/>
                </a:solidFill>
                <a:latin typeface="Arial"/>
              </a:rPr>
              <a:t>Methodology</a:t>
            </a:r>
            <a:endParaRPr b="1" lang="en-US" sz="4400" spc="-1" strike="noStrike">
              <a:solidFill>
                <a:srgbClr val="0060a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week tim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lin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gmatic language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100"/>
              </a:spcAft>
              <a:buClr>
                <a:srgbClr val="c30c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lassroom staff to use Aus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100"/>
              </a:spcAft>
              <a:buClr>
                <a:srgbClr val="c30c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kly Auslan support f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C:\Users\Shawn Kelley\AppData\Local\Microsoft\Windows\Temporary Internet Files\Content.IE5\VRY2X6XV\MC900432663[1].png"/>
          <p:cNvPicPr/>
          <p:nvPr/>
        </p:nvPicPr>
        <p:blipFill>
          <a:blip r:embed="rId1"/>
          <a:stretch/>
        </p:blipFill>
        <p:spPr>
          <a:xfrm>
            <a:off x="6588000" y="2492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04:56:10Z</dcterms:created>
  <dc:creator>Greg Leigh</dc:creator>
  <dc:description/>
  <dc:language>en-US</dc:language>
  <cp:lastModifiedBy>AIS Training</cp:lastModifiedBy>
  <cp:lastPrinted>2002-07-12T05:05:32Z</cp:lastPrinted>
  <dcterms:modified xsi:type="dcterms:W3CDTF">2011-08-15T00:57:26Z</dcterms:modified>
  <cp:revision>241</cp:revision>
  <dc:subject/>
  <dc:title>Progress Review</dc:title>
</cp:coreProperties>
</file>